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ath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100" idx="3"/>
            <a:endCxn id="101" idx="1"/>
          </p:cNvCxnSpPr>
          <p:nvPr/>
        </p:nvCxnSpPr>
        <p:spPr>
          <a:xfrm flipV="1">
            <a:off x="3313080" y="3405960"/>
            <a:ext cx="2699280" cy="6764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0" idx="3"/>
            <a:endCxn id="98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rumgallensäur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prandi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0800" y="54936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erumgallensäur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th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3"/>
            <a:endCxn id="107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8" name=""/>
          <p:cNvCxnSpPr>
            <a:stCxn id="105" idx="3"/>
            <a:endCxn id="109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0" name=""/>
          <p:cNvCxnSpPr>
            <a:stCxn id="105" idx="3"/>
            <a:endCxn id="111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llengang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obstruktion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-abri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81720" y="54936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erumgallensäure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ath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gehung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4480" y="549360"/>
            <a:ext cx="69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rumgallensäuren ↑ &gt; pathologisch &gt; 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4" idx="3"/>
            <a:endCxn id="11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21" idx="3"/>
            <a:endCxn id="122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gehung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rtosystem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u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5200" y="549360"/>
            <a:ext cx="67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rumgallensäuren ↑ &gt; pathologisch &gt; Umgehung der 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7T17:57:53Z</dcterms:modified>
  <cp:revision>328</cp:revision>
  <dc:subject/>
  <dc:title>Vorstellung einer Neuheit</dc:title>
</cp:coreProperties>
</file>